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6.tif" ContentType="image/tiff"/>
  <Override PartName="/ppt/media/image25.tif" ContentType="image/tiff"/>
  <Override PartName="/ppt/media/image17.png" ContentType="image/png"/>
  <Override PartName="/ppt/media/image24.tif" ContentType="image/tif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6A7E-7A7D-4554-9E44-7FEA048E44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9634-A5A2-488D-84DE-486DBF54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A5284E-C9E4-4A60-A0B4-90068F94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6B2F5B-4283-41C3-A572-65109275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ECE7BA-B8FD-499B-BAF8-4DD2A5B7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1D5486-8DE1-473E-8497-5BBBC6CA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465D84-72CA-4287-B7B9-79A62B20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500AC0-1BFC-48A0-9B9F-671CAF71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7F7CAD-3D15-4B78-8697-617DC1AE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6EECB4-2CD8-427C-A6B8-3E6FEB4D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81FC46-3178-4A31-8AE7-94AEBCB12C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64E81-6A5A-4B6B-92AF-AF8004AC48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D66C5-DDB7-4D85-81C7-48B0FEDF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E37A8-9D0B-4383-8B10-BC676D70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ACE18-2EB4-40F5-A8C3-38CAD1A2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4169E-B3E4-48A2-BD38-EDBF7658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88E78-57E1-41A3-AFA3-289A29D0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8947D-3D46-4114-BC61-060B7D48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CA22B-DFD2-466B-9D52-1BD13E09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9821C-AD55-46EE-BE4E-F32E0ED3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9936C-76E3-411B-86F1-4B23599F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6849B-CC12-44E1-8BED-7CDEFF82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A8D51-4F9D-475A-AED9-86391135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5165A-32EE-4AF6-88C0-02C6B3FD3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373F9-1CAC-440E-9186-EE93F47A8A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D1EABD-DF5D-4E2D-B8F9-E033E3C1FB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5E3E1A-036C-4A27-A94F-1C0DFABF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B1314F-4857-40AF-A03D-008AC654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C03E34-155C-4699-BA4D-D08F8413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53DB3D-66D6-4BB7-B6D9-F993D7D8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6B706A-41B9-44A5-A5E8-39483E64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B46E18-6A9E-462D-ADA2-9025ED80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B1026-ED69-461E-8640-6E5151FE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896FA-0F58-4FB8-8FDD-9AD877FE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725A0-50F8-4C46-B027-2E10DAB2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ECF41-BCBB-4512-8FF3-E8AF74DB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E47EB3-8E25-48C1-8A07-1E61ECA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456336-5D48-435D-93D4-2777066664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4067D-066B-4F22-BC24-FEFAE617E0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C092D-D2C9-4E62-9714-11C5BAC4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B8054-970E-46DB-BD36-CE0B329B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AC7E7-E77D-4611-902F-C7868FF8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B020E-6BA5-498B-A442-BF8630D7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95D39-40FD-4224-B5F0-D64273C5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D921C-4D6B-4E06-934D-EC07E35D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DB19D-EC5F-44F9-8E18-8C6BC307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C8852-2510-4C49-A73C-D57802E8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8FC32-7919-49D9-BC7E-C9C42DD1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7587E-F811-49A6-828D-531B2D83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6F845-26BA-4D8F-A336-9F82343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B7F6A-656B-49B8-9169-FBFE0FBA9A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66719-C18A-42E8-BE2A-ABF0C07ACD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D5454-DB03-45BF-B62E-3B01511C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2F5B7-35D9-40C2-AE6E-0DBC4472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AD095-9EBC-4B01-997E-EC5448EC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65FC3-1784-4FA7-8CD0-0C13E62F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886A5-2931-482E-BF8A-3DF6703E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A806B-EF73-4AE8-A0BA-227A6592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79794-6EC0-4E88-845D-91D99A48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5B58D-3775-457E-BCB5-7055F54E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E7A98-6DEB-4261-84E2-BBB8DE08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2FCFD-579E-4F67-8BA8-56FDA98A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88CF6-5EAD-48AD-85B3-4CA0E3A3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1A1AE-B092-4590-9AE2-C69F03C994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7C456-B197-45B8-903D-F8A3578F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E2650-747F-40C8-82CE-F4881EF9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A034C-4B5D-470F-816A-1E740519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C8D53-662C-4BF7-A95A-3C7C43D9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CD6CE-8C04-4930-A0D8-DCCFE724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B6871-E34E-41FF-8F44-637409DC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F0D5D-3DC7-4322-A3D8-C6406138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5DCC5-B22F-4D47-983D-81465CC2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9528F-7004-4844-875E-C713C6C1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BC450-82D3-4BD1-86F4-49EF7EF6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36FA1-C44F-481C-8269-022E8BA1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D9DB6-29FF-4AD5-AB93-DFA023F7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CAD3E-34A3-4B69-8545-96EA7A9A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B87EE-0A4B-43A2-BF71-3156AF0E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E24CB-E858-4C9F-987C-98DDB5BE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C6625-83EA-42E6-8C39-106B6B11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B4796-B39B-4AA5-8BC1-96AA39CC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8C029-8235-4764-B801-F08C4A18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0654F-0AE0-4D54-BFEC-D63A1334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2286F-5C16-4103-8D84-11092358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526DC-62BE-4334-8B92-DA00F42B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BAD59-EB74-4C4E-87FD-C0FD9D08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0CD4C-1C8C-47EA-ABB5-01226704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167D4-C6B2-4C32-843F-AE70EF92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A3730-CCAF-4A29-A222-96B52CA9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20D49-701B-480F-90F6-1D0F6E4D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2A493-CC54-4803-AD24-938E867F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6132B-88A9-4845-B036-08E1B337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B99F0-0C34-41B9-9035-19CB676E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C7E5D-3531-4DB8-817C-A981811D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71499-B800-4CD6-B15C-0F65C6AB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B5427-5291-4E4A-9100-A2A05703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92055-ECE7-49BB-9F6A-6F921DFA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DD6BA-CC02-4835-9FA0-AC51BAA1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63362-0D9F-4B61-8FE4-F346783F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A8392-9099-4BF0-9B52-8617178B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529BE-6801-4F29-818F-8BDA3F9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802D3-0EF7-43DF-80BC-83E3C2D0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4BBE3-483C-4964-A5D9-12525BE2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AE6C8-091C-47B2-AC48-4B3115A1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649BA-C928-4E5F-9BC6-8BC1B741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248FB-197B-4BCD-AD84-B95595B5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81977-C95A-4E5B-9139-5B80F75E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2B49B-6448-4C5F-B5AA-16432E8E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998EF-A723-4B4C-B6EF-7ECB7352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C2FB0-37A1-4916-B7F1-B1261B05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0C3BD-A776-4AB7-A011-29BA07E6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1E63-8D4D-40F3-B6C6-BC5A58D4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07480-7BDB-4A9D-8CBE-90EBD672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5E811-3A38-41DB-94D1-8CB14DC1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5EC85-C39B-4139-BC3B-600FE0A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C2706-B95D-402C-90E4-5D43642D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E1981-D160-49A2-844A-FFBCC870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66CD1-AF51-4586-8B04-A1E11F54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BC4CC-35CF-41CE-8666-8A7972B5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FB750-CF46-40C5-B2B8-4EDFA446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DBBCF-E98E-4406-AE00-B155F59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D1CCA-CA6D-42F4-A15F-7A7A1E26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AA63A4-F026-4E14-A7FA-EE6C040D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11810-0B56-47F9-8B24-E6FD93C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1A580-1F15-4615-A234-9E952DF9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42EBF-08F2-4AB3-A20E-1CBDBE76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CF2CB-02F5-47B9-9FB6-21450A8B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D3C6D-E8E1-49FE-8009-FB4461AA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78EB3-E6FD-46BD-AF33-ABD94C03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43FDC-3D53-4DE9-9D9F-343C66BC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E399C-E213-4F69-9CCD-8FBE4227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127638-8593-4BDA-B712-802D0C47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9E0BE-966E-4E9D-B03D-1AD42110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FEBA3-BCB7-4CAC-84B3-91F4DE85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91AC3-47A5-4F42-95AE-D6ADEEAB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84FA2-0195-46ED-BAF4-0C10C25B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D045D-9C8C-49A9-8EBC-27801956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820C44-C649-4A2A-9CBC-4738721C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42E9C-5D43-4FC7-BB94-A7449CCC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DBA032-C7A3-426E-A5FA-0C8F20DE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78E4C-437C-4172-A838-0DDCC36C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B62D7B-DD29-4E5E-BEA3-83FB6F68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24796-0194-42E4-94AA-D4147C44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B2D35-8E5B-40F7-84E3-EDE5E3FD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8ED7A-420A-4C81-BB2E-99D4BF67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3024A-F3FF-4E3E-8380-1A2086FC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73EC9-F071-4354-8EDA-1F1E315F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72358-D87A-4D96-9185-DC856A17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A601DD-1B1F-446B-8701-8187B4CD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2B04DC-D1DE-4187-9722-1F80319E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1D211-76DD-401C-8B85-D8891926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113D1-0683-437A-A22C-BDD5DBDF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4748E3-142F-422D-AB24-A0737118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6EE77-B468-40D1-A5EA-7AFAE5B2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77C2D-7099-4A9A-B4A9-A78A2F44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4C6067-0D26-4C66-A0A8-6C726FE7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098AF-F97E-4946-B757-B4F9EF59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9FA00-9204-447A-9466-2BF9BA73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89A96-B6BC-43C6-BCE2-DE215142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B007B-9A8D-4B03-A6EA-02F902AF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B9C70-61DD-4025-8DB8-73331AE0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A4A8A-91FA-4C0E-9408-4F3A902D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BEBE7-044D-4A9C-A78E-646FE19C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567AD-43FA-4A5E-9801-7487DE79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C2B0A-1576-438E-88AE-CB446972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51358-02A6-45A4-A983-739E93C9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6D637-52E4-4DEF-87B7-F18AB764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277912-3E8A-480B-9293-158A4A3CC1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0B306-706B-4DED-A796-448B0D4E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85EE5-15FF-4FC8-9E58-76A3C618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A4EDF-8D62-49C7-896E-5C217A87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FCB1D1-8755-41D4-8D0C-DDF0AA7F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2908F-6F2E-4FDD-9EEC-142C2FC1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0D44B-5A8B-4C39-97E6-58FE9275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99DDD-B04F-4878-A87F-9A3764C0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A190BE-3EFC-4767-B849-1963EE0C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EF8CC-44DF-4F44-B271-DC884A09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B6998B-C3AC-4D82-8EEB-8A3BCB21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E8B92F-390E-471A-BB54-DFCA40F9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06BEAA-AF2C-4277-80AA-EC888995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865B8F-FAAF-40FB-B9CC-A672659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C6A83-0727-4ACF-8544-5DD28D2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C514D-C116-4FA1-8D98-5B95C74D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CF8D7-7020-4F93-8F0B-1B4C3E54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D0C301-CA81-46A4-B3BF-ACD12C31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79C414-AC21-4051-9FD2-E027FC0F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418697-4130-4602-8D46-94768A90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77F261-FBAF-4D01-BB6D-B5364C79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C70AF2-C49D-4EFF-B473-0D8984C5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B497C-E248-41A3-BBE9-175D0C83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60DF6F-7344-4041-B101-3662CD4B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1707BE-A7F9-40F0-B0D3-B1E26313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297A00-510D-4411-B968-D71BE7C2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D4763B-45DF-4036-A265-E49C9061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5E9573-DB45-482B-AC0A-FA0015AD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1F09C-0AE6-4878-A7D5-7B9EA721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1A6B3-651E-4CF6-9E03-6E68AB43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BD0AA3-538C-4F06-BF79-D0B1D5C5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DA010-D86D-4077-99C8-F23949AE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CBFC94-4010-493B-970C-C1BE159A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36767D-6AED-4A76-B9FC-C6FC0F72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906AC-54FD-4E9A-B697-C2DE0549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7245B4-A20E-424F-94B0-4F9F01AE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106252-8C3C-49C6-BF14-48D76CDE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C40E33-DBEA-43C8-8652-55D017DE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DD0B59-7097-4DBD-97B8-43A08679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792283-DFCD-46F6-8960-C577CBE0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65D37D-22EF-43A3-87ED-839CA9FA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685BE-8534-458F-86EF-ECBF9548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B372CE-B06D-4078-B04C-D5CE3DE6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3EE7F2-AC25-49D9-8D47-68A5B487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8C70-49F9-4829-A68E-A0ECB1A0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A15C6B-1B88-4518-9DDB-72433862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8D3B3E-9703-4ED2-A695-EC56205D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3B5A8B-FF14-4F7A-A26C-99C531D6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F1D6A-56C3-489D-9834-560E4182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3DC43-2F66-4994-9BDA-B5179449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F146E9-F66D-4604-9B36-2052D306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DF552-CC3C-45CD-8722-37718F562F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B03BF-62CA-401C-B361-3173CAB00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CA5E-8824-4846-8C19-24B85D5F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0624-F32D-4E59-AE87-9984853C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8E21-7A17-47A8-B8A2-CB6BA20E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6212-D290-4317-82CC-270595B2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D08B-CBCA-4C5E-A099-1F8276DC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411B-9FFC-49FF-BCA4-3549C7EC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979F6-0940-46EF-999A-2157D014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3D73-D341-40DE-9B7E-7F82C871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171D3-DD3B-4476-B873-635A7294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E21B2-3423-4518-AC3C-F1917AE5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9895-BAD3-4B78-9657-505B23D5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7F50-DD27-4E3E-99B8-6E0D530E0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8C3BB-B3D0-4B55-81BA-4E81E1F334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4F4B-1EA8-4160-8CF6-E67CD7FE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A543D-6D60-44BF-83F1-564EB717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EFAB3-6714-42B6-A62F-99633508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2FBE6-D047-4BCC-869B-AF989678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6E8D47-BD36-4D61-A033-D7083799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0D015D-DEA5-4A72-8DC9-8DF87B98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D32714-116F-475F-AD4F-B31900C6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30D97-4272-4A75-B3B7-5950B103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24EFFA-2317-4F45-8F18-AFC7BD0D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CEC0F3-5D97-4740-8A8F-0A535356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EEC85-8402-4E69-8060-A668EF79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A56F-F236-498D-8F0B-92AFE302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E554E-EAAA-47CC-B0C6-2A2D7D0B61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627D92-6F03-4462-8F4B-1C3D1B9306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9FF8C2-AC4C-48E9-8C2A-D076914A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6AB045-80ED-412E-B396-0EA86C69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607C3C-B925-401D-8E94-FBD675FF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942D39-C395-40E1-8E4B-71D462CF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10B646-B02A-487F-A0D9-0E1EDBF8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F4E72A-4A39-491A-BBB5-9B76E0E3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ABA2A4-30DD-4556-85B6-19D9D377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24A1CF-A3FE-4FF8-91FA-812AC27A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BF99-F385-4F2A-99DD-5B3AACA7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BEC843-EB06-4F9E-83D6-D110FB14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EE2395-2809-42E1-8DAB-168E632F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43A8EC-18A7-49AF-907E-1B574F0BA1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6F825-AC21-432F-A5B9-5085290A36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EAB9-9550-402C-BFDA-2916FA3A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0A8E6-17D8-4A37-8DD5-2959AAFC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B4543-B194-48AE-89D1-E15CA4A9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00502-48E7-4B87-892B-F2BB2429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2D4F1-AD22-4BCE-819A-2839995A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3A6B2-5F92-430A-95ED-1330BECB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65C0-508D-4A78-87B4-7BC2DC5D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3A008-F91F-485D-BA23-4D54E7E2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78B8E-4F87-454F-83D9-471E7B43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35FA5-8161-471E-B6C4-A9C45662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DB652-41FA-4BB3-8E01-43DEF7B3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7DC83-B697-4929-AB9D-A014DE2373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FB4A1-E13D-443F-B802-6419989292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1DB884-0A5D-4A65-BA02-49414365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20459-4F0F-4D63-B6A8-2FF3C9F4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7C5DD1-40FA-4307-8FB5-5F34977C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88E88-C542-4971-8E15-3101EE65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5161-8EF8-467E-96C6-C800DDC7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C3202-0F12-41CE-AE55-505459BD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9BA1B-B3AE-41C0-8F07-D0FB0D52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1FE66-1141-4329-8317-56381C91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43141B-6616-4594-BE2B-6C22E48C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82514C-770F-46CC-B73B-6F95C2CE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38F99-DB14-41C1-8167-8D131BEF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5B61E-D4D0-46B8-B3BF-74AC1E36F4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4A8B38-0FFD-4781-A9AC-72EC988599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E88D7F-84C6-493F-916C-0BA188BF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45AAE6-1709-4835-8813-37E2FC95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1053-E493-4479-86D3-297363417AE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65BB-7885-45DC-AD74-3C4071307C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85C6-111A-474C-8BD1-A7888DCBFD0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2D62-5E87-44AE-9E5A-432E17CA213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A91A-3054-461B-9547-42EA112F6EB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2796-FF33-47E5-B054-5C36A63040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9ACB-A83B-45DE-A91C-1DA7C5EB2B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E117-9481-43DC-AF8E-B0C7D99868A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3D5E-B2FD-4B07-8D23-87F6CA8CE9D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5C3C-753F-483E-AB76-C7795FE38F9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DE58-D1B9-4297-A12B-D4C608E66BE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FFF6-98B9-4F9B-959D-54B17F48FED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373B-5EB5-4454-8A3A-370D27A11FC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59D1-B7A7-4DDB-A658-81B1CE6C4A5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4CC0-9BD0-429F-8D69-E446760A0DB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ACBA-78AC-48AE-95EB-D930BE7ABC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691B-54EE-4AF9-8317-DF5B933583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A745-EFDC-47E9-A2EA-158C79B3AF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D073-CFDD-4F19-8A6E-0DB6D42598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C972-4D87-4228-9691-7FA872A286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3D98-0448-4391-815E-4737BB9F4DF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1C27-257F-4844-A83A-C33A2202D9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4548-9630-4356-AFCE-FA4E0D17C90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C74F-1F60-4868-914F-2E1AB2FD366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6.tif"/><Relationship Id="rId9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4.tif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5.tif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1584360" y="278748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066680" y="2706840"/>
            <a:ext cx="677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分 数 的 简 单 应 用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数的初步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3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41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49" name="文本框 3"/>
          <p:cNvSpPr/>
          <p:nvPr/>
        </p:nvSpPr>
        <p:spPr>
          <a:xfrm>
            <a:off x="365040" y="979560"/>
            <a:ext cx="79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用分数表示图中各种伞的个数占伞的总数的几分之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图片 1073743008" descr="TBRJ-14"/>
          <p:cNvPicPr/>
          <p:nvPr/>
        </p:nvPicPr>
        <p:blipFill>
          <a:blip r:embed="rId8"/>
          <a:stretch/>
        </p:blipFill>
        <p:spPr>
          <a:xfrm>
            <a:off x="1911240" y="2451240"/>
            <a:ext cx="510228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4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 Box 4"/>
          <p:cNvSpPr/>
          <p:nvPr/>
        </p:nvSpPr>
        <p:spPr>
          <a:xfrm>
            <a:off x="814320" y="1563840"/>
            <a:ext cx="7775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计算下面各题，看谁算得又快又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28"/>
          <p:cNvSpPr/>
          <p:nvPr/>
        </p:nvSpPr>
        <p:spPr>
          <a:xfrm>
            <a:off x="6461280" y="245592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4261"/>
          <p:cNvGrpSpPr/>
          <p:nvPr/>
        </p:nvGrpSpPr>
        <p:grpSpPr>
          <a:xfrm>
            <a:off x="1243080" y="2235240"/>
            <a:ext cx="2592360" cy="889920"/>
            <a:chOff x="1243080" y="2235240"/>
            <a:chExt cx="2592360" cy="889920"/>
          </a:xfrm>
        </p:grpSpPr>
        <p:grpSp>
          <p:nvGrpSpPr>
            <p:cNvPr id="1012" name="组合 4193"/>
            <p:cNvGrpSpPr/>
            <p:nvPr/>
          </p:nvGrpSpPr>
          <p:grpSpPr>
            <a:xfrm>
              <a:off x="1243080" y="2235240"/>
              <a:ext cx="360360" cy="889920"/>
              <a:chOff x="1243080" y="2235240"/>
              <a:chExt cx="360360" cy="889920"/>
            </a:xfrm>
          </p:grpSpPr>
          <p:sp>
            <p:nvSpPr>
              <p:cNvPr id="1013" name="文本框 4194"/>
              <p:cNvSpPr/>
              <p:nvPr/>
            </p:nvSpPr>
            <p:spPr>
              <a:xfrm>
                <a:off x="1243080" y="2235240"/>
                <a:ext cx="360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文本框 4195"/>
              <p:cNvSpPr/>
              <p:nvPr/>
            </p:nvSpPr>
            <p:spPr>
              <a:xfrm>
                <a:off x="1243080" y="2635200"/>
                <a:ext cx="287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直接连接符 4196"/>
              <p:cNvSpPr/>
              <p:nvPr/>
            </p:nvSpPr>
            <p:spPr>
              <a:xfrm>
                <a:off x="1287360" y="2692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组合 4197"/>
            <p:cNvGrpSpPr/>
            <p:nvPr/>
          </p:nvGrpSpPr>
          <p:grpSpPr>
            <a:xfrm>
              <a:off x="2011320" y="2235240"/>
              <a:ext cx="360360" cy="889920"/>
              <a:chOff x="2011320" y="2235240"/>
              <a:chExt cx="360360" cy="889920"/>
            </a:xfrm>
          </p:grpSpPr>
          <p:sp>
            <p:nvSpPr>
              <p:cNvPr id="1017" name="文本框 4198"/>
              <p:cNvSpPr/>
              <p:nvPr/>
            </p:nvSpPr>
            <p:spPr>
              <a:xfrm>
                <a:off x="2011320" y="2235240"/>
                <a:ext cx="360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文本框 4199"/>
              <p:cNvSpPr/>
              <p:nvPr/>
            </p:nvSpPr>
            <p:spPr>
              <a:xfrm>
                <a:off x="2011320" y="2635200"/>
                <a:ext cx="287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直接连接符 4200"/>
              <p:cNvSpPr/>
              <p:nvPr/>
            </p:nvSpPr>
            <p:spPr>
              <a:xfrm>
                <a:off x="2055600" y="2692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文本框 4201"/>
            <p:cNvSpPr/>
            <p:nvPr/>
          </p:nvSpPr>
          <p:spPr>
            <a:xfrm>
              <a:off x="1555920" y="2419200"/>
              <a:ext cx="50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文本框 4202"/>
            <p:cNvSpPr/>
            <p:nvPr/>
          </p:nvSpPr>
          <p:spPr>
            <a:xfrm>
              <a:off x="2324160" y="2431800"/>
              <a:ext cx="1511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4203"/>
          <p:cNvGrpSpPr/>
          <p:nvPr/>
        </p:nvGrpSpPr>
        <p:grpSpPr>
          <a:xfrm>
            <a:off x="2778120" y="2244600"/>
            <a:ext cx="360360" cy="889920"/>
            <a:chOff x="2778120" y="2244600"/>
            <a:chExt cx="360360" cy="889920"/>
          </a:xfrm>
        </p:grpSpPr>
        <p:sp>
          <p:nvSpPr>
            <p:cNvPr id="1023" name="文本框 4204"/>
            <p:cNvSpPr/>
            <p:nvPr/>
          </p:nvSpPr>
          <p:spPr>
            <a:xfrm>
              <a:off x="2778120" y="2244600"/>
              <a:ext cx="36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文本框 4205"/>
            <p:cNvSpPr/>
            <p:nvPr/>
          </p:nvSpPr>
          <p:spPr>
            <a:xfrm>
              <a:off x="2778120" y="2644560"/>
              <a:ext cx="2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4206"/>
            <p:cNvSpPr/>
            <p:nvPr/>
          </p:nvSpPr>
          <p:spPr>
            <a:xfrm>
              <a:off x="2822400" y="27018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4225"/>
          <p:cNvGrpSpPr/>
          <p:nvPr/>
        </p:nvGrpSpPr>
        <p:grpSpPr>
          <a:xfrm>
            <a:off x="3143520" y="3348000"/>
            <a:ext cx="658440" cy="592920"/>
            <a:chOff x="3143520" y="3348000"/>
            <a:chExt cx="658440" cy="592920"/>
          </a:xfrm>
        </p:grpSpPr>
        <p:sp>
          <p:nvSpPr>
            <p:cNvPr id="1027" name="Rectangle 33"/>
            <p:cNvSpPr/>
            <p:nvPr/>
          </p:nvSpPr>
          <p:spPr>
            <a:xfrm>
              <a:off x="3143520" y="3348000"/>
              <a:ext cx="378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34"/>
            <p:cNvSpPr/>
            <p:nvPr/>
          </p:nvSpPr>
          <p:spPr>
            <a:xfrm>
              <a:off x="3436920" y="3371760"/>
              <a:ext cx="365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组合 4262"/>
          <p:cNvGrpSpPr/>
          <p:nvPr/>
        </p:nvGrpSpPr>
        <p:grpSpPr>
          <a:xfrm>
            <a:off x="1243080" y="3146400"/>
            <a:ext cx="2592360" cy="889920"/>
            <a:chOff x="1243080" y="3146400"/>
            <a:chExt cx="2592360" cy="889920"/>
          </a:xfrm>
        </p:grpSpPr>
        <p:grpSp>
          <p:nvGrpSpPr>
            <p:cNvPr id="1030" name="组合 4263"/>
            <p:cNvGrpSpPr/>
            <p:nvPr/>
          </p:nvGrpSpPr>
          <p:grpSpPr>
            <a:xfrm>
              <a:off x="1243080" y="3146400"/>
              <a:ext cx="360360" cy="889920"/>
              <a:chOff x="1243080" y="3146400"/>
              <a:chExt cx="360360" cy="889920"/>
            </a:xfrm>
          </p:grpSpPr>
          <p:sp>
            <p:nvSpPr>
              <p:cNvPr id="1031" name="文本框 4264"/>
              <p:cNvSpPr/>
              <p:nvPr/>
            </p:nvSpPr>
            <p:spPr>
              <a:xfrm>
                <a:off x="1243080" y="3146400"/>
                <a:ext cx="360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文本框 4265"/>
              <p:cNvSpPr/>
              <p:nvPr/>
            </p:nvSpPr>
            <p:spPr>
              <a:xfrm>
                <a:off x="1243080" y="3546360"/>
                <a:ext cx="287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直接连接符 4266"/>
              <p:cNvSpPr/>
              <p:nvPr/>
            </p:nvSpPr>
            <p:spPr>
              <a:xfrm>
                <a:off x="1287360" y="36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组合 4267"/>
            <p:cNvGrpSpPr/>
            <p:nvPr/>
          </p:nvGrpSpPr>
          <p:grpSpPr>
            <a:xfrm>
              <a:off x="2011320" y="3146400"/>
              <a:ext cx="360360" cy="889920"/>
              <a:chOff x="2011320" y="3146400"/>
              <a:chExt cx="360360" cy="889920"/>
            </a:xfrm>
          </p:grpSpPr>
          <p:sp>
            <p:nvSpPr>
              <p:cNvPr id="1035" name="文本框 4268"/>
              <p:cNvSpPr/>
              <p:nvPr/>
            </p:nvSpPr>
            <p:spPr>
              <a:xfrm>
                <a:off x="2011320" y="3146400"/>
                <a:ext cx="360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文本框 4269"/>
              <p:cNvSpPr/>
              <p:nvPr/>
            </p:nvSpPr>
            <p:spPr>
              <a:xfrm>
                <a:off x="2011320" y="3546360"/>
                <a:ext cx="287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直接连接符 4270"/>
              <p:cNvSpPr/>
              <p:nvPr/>
            </p:nvSpPr>
            <p:spPr>
              <a:xfrm>
                <a:off x="2055600" y="36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文本框 4271"/>
            <p:cNvSpPr/>
            <p:nvPr/>
          </p:nvSpPr>
          <p:spPr>
            <a:xfrm>
              <a:off x="1555920" y="3330360"/>
              <a:ext cx="50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4272"/>
            <p:cNvSpPr/>
            <p:nvPr/>
          </p:nvSpPr>
          <p:spPr>
            <a:xfrm>
              <a:off x="2324160" y="3342960"/>
              <a:ext cx="1511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组合 4273"/>
          <p:cNvGrpSpPr/>
          <p:nvPr/>
        </p:nvGrpSpPr>
        <p:grpSpPr>
          <a:xfrm>
            <a:off x="2778120" y="3146400"/>
            <a:ext cx="360360" cy="889920"/>
            <a:chOff x="2778120" y="3146400"/>
            <a:chExt cx="360360" cy="889920"/>
          </a:xfrm>
        </p:grpSpPr>
        <p:sp>
          <p:nvSpPr>
            <p:cNvPr id="1041" name="文本框 4274"/>
            <p:cNvSpPr/>
            <p:nvPr/>
          </p:nvSpPr>
          <p:spPr>
            <a:xfrm>
              <a:off x="2778120" y="3146400"/>
              <a:ext cx="36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4275"/>
            <p:cNvSpPr/>
            <p:nvPr/>
          </p:nvSpPr>
          <p:spPr>
            <a:xfrm>
              <a:off x="2778120" y="3546360"/>
              <a:ext cx="2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4276"/>
            <p:cNvSpPr/>
            <p:nvPr/>
          </p:nvSpPr>
          <p:spPr>
            <a:xfrm>
              <a:off x="2822400" y="36036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组合 4317"/>
          <p:cNvGrpSpPr/>
          <p:nvPr/>
        </p:nvGrpSpPr>
        <p:grpSpPr>
          <a:xfrm>
            <a:off x="4435560" y="2235240"/>
            <a:ext cx="2716200" cy="889920"/>
            <a:chOff x="4435560" y="2235240"/>
            <a:chExt cx="2716200" cy="889920"/>
          </a:xfrm>
        </p:grpSpPr>
        <p:grpSp>
          <p:nvGrpSpPr>
            <p:cNvPr id="1045" name="组合 4293"/>
            <p:cNvGrpSpPr/>
            <p:nvPr/>
          </p:nvGrpSpPr>
          <p:grpSpPr>
            <a:xfrm>
              <a:off x="4435560" y="2235240"/>
              <a:ext cx="625320" cy="889920"/>
              <a:chOff x="4435560" y="2235240"/>
              <a:chExt cx="625320" cy="889920"/>
            </a:xfrm>
          </p:grpSpPr>
          <p:sp>
            <p:nvSpPr>
              <p:cNvPr id="1046" name="文本框 4280"/>
              <p:cNvSpPr/>
              <p:nvPr/>
            </p:nvSpPr>
            <p:spPr>
              <a:xfrm>
                <a:off x="4530960" y="2235240"/>
                <a:ext cx="4539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文本框 4281"/>
              <p:cNvSpPr/>
              <p:nvPr/>
            </p:nvSpPr>
            <p:spPr>
              <a:xfrm>
                <a:off x="4435560" y="2635200"/>
                <a:ext cx="625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直接连接符 4282"/>
              <p:cNvSpPr/>
              <p:nvPr/>
            </p:nvSpPr>
            <p:spPr>
              <a:xfrm>
                <a:off x="4535640" y="2690640"/>
                <a:ext cx="42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文本框 4287"/>
            <p:cNvSpPr/>
            <p:nvPr/>
          </p:nvSpPr>
          <p:spPr>
            <a:xfrm>
              <a:off x="4872240" y="2419200"/>
              <a:ext cx="50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文本框 4288"/>
            <p:cNvSpPr/>
            <p:nvPr/>
          </p:nvSpPr>
          <p:spPr>
            <a:xfrm>
              <a:off x="5640480" y="2431800"/>
              <a:ext cx="1511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组合 4294"/>
            <p:cNvGrpSpPr/>
            <p:nvPr/>
          </p:nvGrpSpPr>
          <p:grpSpPr>
            <a:xfrm>
              <a:off x="5187960" y="2235240"/>
              <a:ext cx="625320" cy="889920"/>
              <a:chOff x="5187960" y="2235240"/>
              <a:chExt cx="625320" cy="889920"/>
            </a:xfrm>
          </p:grpSpPr>
          <p:sp>
            <p:nvSpPr>
              <p:cNvPr id="1052" name="文本框 4295"/>
              <p:cNvSpPr/>
              <p:nvPr/>
            </p:nvSpPr>
            <p:spPr>
              <a:xfrm>
                <a:off x="5283360" y="2235240"/>
                <a:ext cx="4539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文本框 4296"/>
              <p:cNvSpPr/>
              <p:nvPr/>
            </p:nvSpPr>
            <p:spPr>
              <a:xfrm>
                <a:off x="5187960" y="2635200"/>
                <a:ext cx="625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直接连接符 4297"/>
              <p:cNvSpPr/>
              <p:nvPr/>
            </p:nvSpPr>
            <p:spPr>
              <a:xfrm>
                <a:off x="5288040" y="2690640"/>
                <a:ext cx="42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组合 4302"/>
          <p:cNvGrpSpPr/>
          <p:nvPr/>
        </p:nvGrpSpPr>
        <p:grpSpPr>
          <a:xfrm>
            <a:off x="5965920" y="2235240"/>
            <a:ext cx="688680" cy="889920"/>
            <a:chOff x="5965920" y="2235240"/>
            <a:chExt cx="688680" cy="889920"/>
          </a:xfrm>
        </p:grpSpPr>
        <p:sp>
          <p:nvSpPr>
            <p:cNvPr id="1056" name="文本框 4299"/>
            <p:cNvSpPr/>
            <p:nvPr/>
          </p:nvSpPr>
          <p:spPr>
            <a:xfrm>
              <a:off x="5965920" y="2235240"/>
              <a:ext cx="688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文本框 4300"/>
            <p:cNvSpPr/>
            <p:nvPr/>
          </p:nvSpPr>
          <p:spPr>
            <a:xfrm>
              <a:off x="5987880" y="2635200"/>
              <a:ext cx="625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直接连接符 4301"/>
            <p:cNvSpPr/>
            <p:nvPr/>
          </p:nvSpPr>
          <p:spPr>
            <a:xfrm>
              <a:off x="6087960" y="2690640"/>
              <a:ext cx="422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组合 4318"/>
          <p:cNvGrpSpPr/>
          <p:nvPr/>
        </p:nvGrpSpPr>
        <p:grpSpPr>
          <a:xfrm>
            <a:off x="4557600" y="3146400"/>
            <a:ext cx="2592360" cy="889920"/>
            <a:chOff x="4557600" y="3146400"/>
            <a:chExt cx="2592360" cy="889920"/>
          </a:xfrm>
        </p:grpSpPr>
        <p:grpSp>
          <p:nvGrpSpPr>
            <p:cNvPr id="1060" name="组合 4319"/>
            <p:cNvGrpSpPr/>
            <p:nvPr/>
          </p:nvGrpSpPr>
          <p:grpSpPr>
            <a:xfrm>
              <a:off x="4557600" y="3146400"/>
              <a:ext cx="360360" cy="889920"/>
              <a:chOff x="4557600" y="3146400"/>
              <a:chExt cx="360360" cy="889920"/>
            </a:xfrm>
          </p:grpSpPr>
          <p:sp>
            <p:nvSpPr>
              <p:cNvPr id="1061" name="文本框 4320"/>
              <p:cNvSpPr/>
              <p:nvPr/>
            </p:nvSpPr>
            <p:spPr>
              <a:xfrm>
                <a:off x="4557600" y="3146400"/>
                <a:ext cx="360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文本框 4321"/>
              <p:cNvSpPr/>
              <p:nvPr/>
            </p:nvSpPr>
            <p:spPr>
              <a:xfrm>
                <a:off x="4557600" y="3546360"/>
                <a:ext cx="287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直接连接符 4322"/>
              <p:cNvSpPr/>
              <p:nvPr/>
            </p:nvSpPr>
            <p:spPr>
              <a:xfrm>
                <a:off x="4601880" y="36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组合 4323"/>
            <p:cNvGrpSpPr/>
            <p:nvPr/>
          </p:nvGrpSpPr>
          <p:grpSpPr>
            <a:xfrm>
              <a:off x="5325840" y="3146400"/>
              <a:ext cx="360360" cy="889920"/>
              <a:chOff x="5325840" y="3146400"/>
              <a:chExt cx="360360" cy="889920"/>
            </a:xfrm>
          </p:grpSpPr>
          <p:sp>
            <p:nvSpPr>
              <p:cNvPr id="1065" name="文本框 4324"/>
              <p:cNvSpPr/>
              <p:nvPr/>
            </p:nvSpPr>
            <p:spPr>
              <a:xfrm>
                <a:off x="5325840" y="3146400"/>
                <a:ext cx="360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文本框 4325"/>
              <p:cNvSpPr/>
              <p:nvPr/>
            </p:nvSpPr>
            <p:spPr>
              <a:xfrm>
                <a:off x="5325840" y="3546360"/>
                <a:ext cx="287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直接连接符 4326"/>
              <p:cNvSpPr/>
              <p:nvPr/>
            </p:nvSpPr>
            <p:spPr>
              <a:xfrm>
                <a:off x="5370120" y="36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8" name="文本框 4327"/>
            <p:cNvSpPr/>
            <p:nvPr/>
          </p:nvSpPr>
          <p:spPr>
            <a:xfrm>
              <a:off x="4870440" y="3330360"/>
              <a:ext cx="504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文本框 4328"/>
            <p:cNvSpPr/>
            <p:nvPr/>
          </p:nvSpPr>
          <p:spPr>
            <a:xfrm>
              <a:off x="5638680" y="3342960"/>
              <a:ext cx="1511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组合 4329"/>
          <p:cNvGrpSpPr/>
          <p:nvPr/>
        </p:nvGrpSpPr>
        <p:grpSpPr>
          <a:xfrm>
            <a:off x="6093000" y="3146400"/>
            <a:ext cx="360360" cy="889920"/>
            <a:chOff x="6093000" y="3146400"/>
            <a:chExt cx="360360" cy="889920"/>
          </a:xfrm>
        </p:grpSpPr>
        <p:sp>
          <p:nvSpPr>
            <p:cNvPr id="1071" name="文本框 4330"/>
            <p:cNvSpPr/>
            <p:nvPr/>
          </p:nvSpPr>
          <p:spPr>
            <a:xfrm>
              <a:off x="6093000" y="3146400"/>
              <a:ext cx="36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4331"/>
            <p:cNvSpPr/>
            <p:nvPr/>
          </p:nvSpPr>
          <p:spPr>
            <a:xfrm>
              <a:off x="6093000" y="3546360"/>
              <a:ext cx="2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直接连接符 4332"/>
            <p:cNvSpPr/>
            <p:nvPr/>
          </p:nvSpPr>
          <p:spPr>
            <a:xfrm>
              <a:off x="6137280" y="36036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组合 32"/>
          <p:cNvGrpSpPr/>
          <p:nvPr/>
        </p:nvGrpSpPr>
        <p:grpSpPr>
          <a:xfrm>
            <a:off x="1643040" y="3786120"/>
            <a:ext cx="3286080" cy="2286000"/>
            <a:chOff x="1643040" y="3786120"/>
            <a:chExt cx="3286080" cy="2286000"/>
          </a:xfrm>
        </p:grpSpPr>
        <p:sp>
          <p:nvSpPr>
            <p:cNvPr id="1075" name="椭圆 19"/>
            <p:cNvSpPr/>
            <p:nvPr/>
          </p:nvSpPr>
          <p:spPr>
            <a:xfrm>
              <a:off x="1643040" y="3786120"/>
              <a:ext cx="3286080" cy="2286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6" name="Picture 2" descr="D:\我的文档-桌面-收藏夹\桌面\9885883_100502604000_2.jpg"/>
            <p:cNvPicPr/>
            <p:nvPr/>
          </p:nvPicPr>
          <p:blipFill>
            <a:blip r:embed="rId1"/>
            <a:stretch/>
          </p:blipFill>
          <p:spPr>
            <a:xfrm>
              <a:off x="2071440" y="4303800"/>
              <a:ext cx="64296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" descr="D:\我的文档-桌面-收藏夹\桌面\9885883_100502604000_2.jpg"/>
            <p:cNvPicPr/>
            <p:nvPr/>
          </p:nvPicPr>
          <p:blipFill>
            <a:blip r:embed="rId2"/>
            <a:stretch/>
          </p:blipFill>
          <p:spPr>
            <a:xfrm>
              <a:off x="2071440" y="5000400"/>
              <a:ext cx="64296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2" descr="D:\我的文档-桌面-收藏夹\桌面\9885883_100502604000_2.jpg"/>
            <p:cNvPicPr/>
            <p:nvPr/>
          </p:nvPicPr>
          <p:blipFill>
            <a:blip r:embed="rId3"/>
            <a:stretch/>
          </p:blipFill>
          <p:spPr>
            <a:xfrm>
              <a:off x="3000240" y="4303800"/>
              <a:ext cx="64296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2" descr="D:\我的文档-桌面-收藏夹\桌面\9885883_100502604000_2.jpg"/>
            <p:cNvPicPr/>
            <p:nvPr/>
          </p:nvPicPr>
          <p:blipFill>
            <a:blip r:embed="rId4"/>
            <a:stretch/>
          </p:blipFill>
          <p:spPr>
            <a:xfrm>
              <a:off x="3000240" y="5000400"/>
              <a:ext cx="64296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Picture 2" descr="D:\我的文档-桌面-收藏夹\桌面\9885883_100502604000_2.jpg"/>
            <p:cNvPicPr/>
            <p:nvPr/>
          </p:nvPicPr>
          <p:blipFill>
            <a:blip r:embed="rId5"/>
            <a:stretch/>
          </p:blipFill>
          <p:spPr>
            <a:xfrm>
              <a:off x="3857760" y="4303800"/>
              <a:ext cx="64296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Picture 2" descr="D:\我的文档-桌面-收藏夹\桌面\9885883_100502604000_2.jpg"/>
            <p:cNvPicPr/>
            <p:nvPr/>
          </p:nvPicPr>
          <p:blipFill>
            <a:blip r:embed="rId6"/>
            <a:stretch/>
          </p:blipFill>
          <p:spPr>
            <a:xfrm>
              <a:off x="3857760" y="5000400"/>
              <a:ext cx="642960" cy="69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2" name="Picture 27" descr="43"/>
          <p:cNvPicPr/>
          <p:nvPr/>
        </p:nvPicPr>
        <p:blipFill>
          <a:blip r:embed="rId7"/>
          <a:stretch/>
        </p:blipFill>
        <p:spPr>
          <a:xfrm>
            <a:off x="1515960" y="1071720"/>
            <a:ext cx="6696000" cy="2577960"/>
          </a:xfrm>
          <a:prstGeom prst="rect">
            <a:avLst/>
          </a:prstGeom>
          <a:ln w="0">
            <a:noFill/>
          </a:ln>
        </p:spPr>
      </p:pic>
      <p:grpSp>
        <p:nvGrpSpPr>
          <p:cNvPr id="1083" name="Group 36"/>
          <p:cNvGrpSpPr/>
          <p:nvPr/>
        </p:nvGrpSpPr>
        <p:grpSpPr>
          <a:xfrm>
            <a:off x="3714840" y="1857240"/>
            <a:ext cx="657000" cy="995760"/>
            <a:chOff x="3714840" y="1857240"/>
            <a:chExt cx="657000" cy="995760"/>
          </a:xfrm>
        </p:grpSpPr>
        <p:sp>
          <p:nvSpPr>
            <p:cNvPr id="1084" name="Text Box 37"/>
            <p:cNvSpPr/>
            <p:nvPr/>
          </p:nvSpPr>
          <p:spPr>
            <a:xfrm>
              <a:off x="3714840" y="1857240"/>
              <a:ext cx="647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38"/>
            <p:cNvSpPr/>
            <p:nvPr/>
          </p:nvSpPr>
          <p:spPr>
            <a:xfrm>
              <a:off x="3724200" y="2378160"/>
              <a:ext cx="647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36"/>
          <p:cNvGrpSpPr/>
          <p:nvPr/>
        </p:nvGrpSpPr>
        <p:grpSpPr>
          <a:xfrm>
            <a:off x="7629480" y="1911240"/>
            <a:ext cx="657000" cy="941760"/>
            <a:chOff x="7629480" y="1911240"/>
            <a:chExt cx="657000" cy="941760"/>
          </a:xfrm>
        </p:grpSpPr>
        <p:sp>
          <p:nvSpPr>
            <p:cNvPr id="1087" name="Text Box 37"/>
            <p:cNvSpPr/>
            <p:nvPr/>
          </p:nvSpPr>
          <p:spPr>
            <a:xfrm>
              <a:off x="7629480" y="1911240"/>
              <a:ext cx="647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38"/>
            <p:cNvSpPr/>
            <p:nvPr/>
          </p:nvSpPr>
          <p:spPr>
            <a:xfrm>
              <a:off x="7638840" y="2378160"/>
              <a:ext cx="647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TextBox 8"/>
          <p:cNvSpPr/>
          <p:nvPr/>
        </p:nvSpPr>
        <p:spPr>
          <a:xfrm>
            <a:off x="1071720" y="571680"/>
            <a:ext cx="5286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用分数表示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组合 31"/>
          <p:cNvGrpSpPr/>
          <p:nvPr/>
        </p:nvGrpSpPr>
        <p:grpSpPr>
          <a:xfrm>
            <a:off x="857160" y="3571920"/>
            <a:ext cx="7715520" cy="2500200"/>
            <a:chOff x="857160" y="3571920"/>
            <a:chExt cx="7715520" cy="2500200"/>
          </a:xfrm>
        </p:grpSpPr>
        <p:sp>
          <p:nvSpPr>
            <p:cNvPr id="1091" name="TextBox 9"/>
            <p:cNvSpPr/>
            <p:nvPr/>
          </p:nvSpPr>
          <p:spPr>
            <a:xfrm>
              <a:off x="857160" y="3857400"/>
              <a:ext cx="857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2" name="组合 17"/>
            <p:cNvGrpSpPr/>
            <p:nvPr/>
          </p:nvGrpSpPr>
          <p:grpSpPr>
            <a:xfrm>
              <a:off x="5214960" y="3571920"/>
              <a:ext cx="3357720" cy="2500200"/>
              <a:chOff x="5214960" y="3571920"/>
              <a:chExt cx="3357720" cy="2500200"/>
            </a:xfrm>
          </p:grpSpPr>
          <p:sp>
            <p:nvSpPr>
              <p:cNvPr id="1093" name="TextBox 10"/>
              <p:cNvSpPr/>
              <p:nvPr/>
            </p:nvSpPr>
            <p:spPr>
              <a:xfrm>
                <a:off x="5214960" y="3571920"/>
                <a:ext cx="3357720" cy="25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6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个苹果平均分成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份，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份苹果是总数的   ；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份苹果是总数的   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Text Box 51"/>
              <p:cNvSpPr/>
              <p:nvPr/>
            </p:nvSpPr>
            <p:spPr>
              <a:xfrm>
                <a:off x="7712280" y="435780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Text Box 52"/>
              <p:cNvSpPr/>
              <p:nvPr/>
            </p:nvSpPr>
            <p:spPr>
              <a:xfrm>
                <a:off x="7643880" y="4753080"/>
                <a:ext cx="53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6" name=""/>
              <p:cNvGrpSpPr/>
              <p:nvPr/>
            </p:nvGrpSpPr>
            <p:grpSpPr>
              <a:xfrm>
                <a:off x="7715520" y="4819320"/>
                <a:ext cx="357120" cy="360"/>
                <a:chOff x="7715520" y="4819320"/>
                <a:chExt cx="357120" cy="360"/>
              </a:xfrm>
            </p:grpSpPr>
            <p:sp>
              <p:nvSpPr>
                <p:cNvPr id="1097" name="Line 53"/>
                <p:cNvSpPr/>
                <p:nvPr/>
              </p:nvSpPr>
              <p:spPr>
                <a:xfrm>
                  <a:off x="7715520" y="4819320"/>
                  <a:ext cx="357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 txBox="1"/>
                <p:nvPr/>
              </p:nvSpPr>
              <p:spPr>
                <a:xfrm>
                  <a:off x="7715520" y="4819320"/>
                  <a:ext cx="35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Text Box 51"/>
              <p:cNvSpPr/>
              <p:nvPr/>
            </p:nvSpPr>
            <p:spPr>
              <a:xfrm>
                <a:off x="7712280" y="507204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Text Box 52"/>
              <p:cNvSpPr/>
              <p:nvPr/>
            </p:nvSpPr>
            <p:spPr>
              <a:xfrm>
                <a:off x="7643880" y="5396400"/>
                <a:ext cx="53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1" name=""/>
              <p:cNvGrpSpPr/>
              <p:nvPr/>
            </p:nvGrpSpPr>
            <p:grpSpPr>
              <a:xfrm>
                <a:off x="7715520" y="5500800"/>
                <a:ext cx="357120" cy="360"/>
                <a:chOff x="7715520" y="5500800"/>
                <a:chExt cx="357120" cy="360"/>
              </a:xfrm>
            </p:grpSpPr>
            <p:sp>
              <p:nvSpPr>
                <p:cNvPr id="1102" name="Line 53"/>
                <p:cNvSpPr/>
                <p:nvPr/>
              </p:nvSpPr>
              <p:spPr>
                <a:xfrm>
                  <a:off x="7715520" y="5500800"/>
                  <a:ext cx="357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 txBox="1"/>
                <p:nvPr/>
              </p:nvSpPr>
              <p:spPr>
                <a:xfrm>
                  <a:off x="7715520" y="5500800"/>
                  <a:ext cx="35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04" name="直接连接符 23"/>
          <p:cNvSpPr/>
          <p:nvPr/>
        </p:nvSpPr>
        <p:spPr>
          <a:xfrm>
            <a:off x="2786040" y="3857760"/>
            <a:ext cx="0" cy="21430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直接连接符 28"/>
          <p:cNvSpPr/>
          <p:nvPr/>
        </p:nvSpPr>
        <p:spPr>
          <a:xfrm>
            <a:off x="3714840" y="3857760"/>
            <a:ext cx="0" cy="21430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7" name="圆角矩形 3" descr=""/>
            <p:cNvPicPr/>
            <p:nvPr/>
          </p:nvPicPr>
          <p:blipFill>
            <a:blip r:embed="rId8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09" name="椭圆 4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椭圆 7" descr=""/>
              <p:cNvPicPr/>
              <p:nvPr/>
            </p:nvPicPr>
            <p:blipFill>
              <a:blip r:embed="rId9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2" name="椭圆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圆角矩形 31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3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3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34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7" name="八边形 6"/>
          <p:cNvSpPr/>
          <p:nvPr/>
        </p:nvSpPr>
        <p:spPr>
          <a:xfrm>
            <a:off x="279360" y="82224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Box 5"/>
          <p:cNvSpPr/>
          <p:nvPr/>
        </p:nvSpPr>
        <p:spPr>
          <a:xfrm>
            <a:off x="214200" y="855720"/>
            <a:ext cx="5214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分数表示下面各图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组合 3"/>
          <p:cNvGrpSpPr/>
          <p:nvPr/>
        </p:nvGrpSpPr>
        <p:grpSpPr>
          <a:xfrm>
            <a:off x="179280" y="2019240"/>
            <a:ext cx="8382240" cy="1619280"/>
            <a:chOff x="179280" y="2019240"/>
            <a:chExt cx="8382240" cy="1619280"/>
          </a:xfrm>
        </p:grpSpPr>
        <p:pic>
          <p:nvPicPr>
            <p:cNvPr id="1120" name="Picture 41" descr="未标题-5"/>
            <p:cNvPicPr/>
            <p:nvPr/>
          </p:nvPicPr>
          <p:blipFill>
            <a:blip r:embed="rId1"/>
            <a:stretch/>
          </p:blipFill>
          <p:spPr>
            <a:xfrm>
              <a:off x="179280" y="2019240"/>
              <a:ext cx="8382240" cy="1619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1" name="Group 44"/>
            <p:cNvGrpSpPr/>
            <p:nvPr/>
          </p:nvGrpSpPr>
          <p:grpSpPr>
            <a:xfrm>
              <a:off x="2679840" y="2590560"/>
              <a:ext cx="364680" cy="912600"/>
              <a:chOff x="2679840" y="2590560"/>
              <a:chExt cx="364680" cy="912600"/>
            </a:xfrm>
          </p:grpSpPr>
          <p:sp>
            <p:nvSpPr>
              <p:cNvPr id="1122" name="Text Box 42"/>
              <p:cNvSpPr/>
              <p:nvPr/>
            </p:nvSpPr>
            <p:spPr>
              <a:xfrm>
                <a:off x="2684520" y="2590560"/>
                <a:ext cx="3600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Text Box 43"/>
              <p:cNvSpPr/>
              <p:nvPr/>
            </p:nvSpPr>
            <p:spPr>
              <a:xfrm>
                <a:off x="2679840" y="3028320"/>
                <a:ext cx="3600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Group 52"/>
            <p:cNvGrpSpPr/>
            <p:nvPr/>
          </p:nvGrpSpPr>
          <p:grpSpPr>
            <a:xfrm>
              <a:off x="5394600" y="2590560"/>
              <a:ext cx="365040" cy="912600"/>
              <a:chOff x="5394600" y="2590560"/>
              <a:chExt cx="365040" cy="912600"/>
            </a:xfrm>
          </p:grpSpPr>
          <p:sp>
            <p:nvSpPr>
              <p:cNvPr id="1125" name="Text Box 47"/>
              <p:cNvSpPr/>
              <p:nvPr/>
            </p:nvSpPr>
            <p:spPr>
              <a:xfrm>
                <a:off x="5394600" y="2590560"/>
                <a:ext cx="360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Text Box 48"/>
              <p:cNvSpPr/>
              <p:nvPr/>
            </p:nvSpPr>
            <p:spPr>
              <a:xfrm>
                <a:off x="5399280" y="3028320"/>
                <a:ext cx="360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Group 49"/>
            <p:cNvGrpSpPr/>
            <p:nvPr/>
          </p:nvGrpSpPr>
          <p:grpSpPr>
            <a:xfrm>
              <a:off x="8030160" y="2666880"/>
              <a:ext cx="364680" cy="912600"/>
              <a:chOff x="8030160" y="2666880"/>
              <a:chExt cx="364680" cy="912600"/>
            </a:xfrm>
          </p:grpSpPr>
          <p:sp>
            <p:nvSpPr>
              <p:cNvPr id="1128" name="Text Box 50"/>
              <p:cNvSpPr/>
              <p:nvPr/>
            </p:nvSpPr>
            <p:spPr>
              <a:xfrm>
                <a:off x="8034840" y="2666880"/>
                <a:ext cx="3600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Text Box 51"/>
              <p:cNvSpPr/>
              <p:nvPr/>
            </p:nvSpPr>
            <p:spPr>
              <a:xfrm>
                <a:off x="8030160" y="3104640"/>
                <a:ext cx="3600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1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33" name="椭圆 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椭圆 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6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组合 3"/>
          <p:cNvGrpSpPr/>
          <p:nvPr/>
        </p:nvGrpSpPr>
        <p:grpSpPr>
          <a:xfrm>
            <a:off x="365040" y="1089000"/>
            <a:ext cx="7143480" cy="2427480"/>
            <a:chOff x="365040" y="1089000"/>
            <a:chExt cx="7143480" cy="2427480"/>
          </a:xfrm>
        </p:grpSpPr>
        <p:sp>
          <p:nvSpPr>
            <p:cNvPr id="1142" name="TextBox 16"/>
            <p:cNvSpPr/>
            <p:nvPr/>
          </p:nvSpPr>
          <p:spPr>
            <a:xfrm>
              <a:off x="365040" y="1517400"/>
              <a:ext cx="5286600" cy="12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有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，把其中的   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上红色，  涂色蓝色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51"/>
            <p:cNvSpPr/>
            <p:nvPr/>
          </p:nvSpPr>
          <p:spPr>
            <a:xfrm>
              <a:off x="3675240" y="1445400"/>
              <a:ext cx="40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52"/>
            <p:cNvSpPr/>
            <p:nvPr/>
          </p:nvSpPr>
          <p:spPr>
            <a:xfrm>
              <a:off x="3611880" y="184104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"/>
            <p:cNvGrpSpPr/>
            <p:nvPr/>
          </p:nvGrpSpPr>
          <p:grpSpPr>
            <a:xfrm>
              <a:off x="3678480" y="1907640"/>
              <a:ext cx="356760" cy="360"/>
              <a:chOff x="3678480" y="1907640"/>
              <a:chExt cx="356760" cy="360"/>
            </a:xfrm>
          </p:grpSpPr>
          <p:sp>
            <p:nvSpPr>
              <p:cNvPr id="1146" name="Line 53"/>
              <p:cNvSpPr/>
              <p:nvPr/>
            </p:nvSpPr>
            <p:spPr>
              <a:xfrm>
                <a:off x="3678480" y="1907640"/>
                <a:ext cx="356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 txBox="1"/>
              <p:nvPr/>
            </p:nvSpPr>
            <p:spPr>
              <a:xfrm>
                <a:off x="3678480" y="1907640"/>
                <a:ext cx="35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Text Box 51"/>
            <p:cNvSpPr/>
            <p:nvPr/>
          </p:nvSpPr>
          <p:spPr>
            <a:xfrm>
              <a:off x="1857240" y="2016720"/>
              <a:ext cx="40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52"/>
            <p:cNvSpPr/>
            <p:nvPr/>
          </p:nvSpPr>
          <p:spPr>
            <a:xfrm>
              <a:off x="1793880" y="24120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1860480" y="2478600"/>
              <a:ext cx="356760" cy="360"/>
              <a:chOff x="1860480" y="2478600"/>
              <a:chExt cx="356760" cy="360"/>
            </a:xfrm>
          </p:grpSpPr>
          <p:sp>
            <p:nvSpPr>
              <p:cNvPr id="1151" name="Line 53"/>
              <p:cNvSpPr/>
              <p:nvPr/>
            </p:nvSpPr>
            <p:spPr>
              <a:xfrm>
                <a:off x="1860480" y="2478600"/>
                <a:ext cx="356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1860480" y="2478600"/>
                <a:ext cx="35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等腰三角形 23"/>
            <p:cNvSpPr/>
            <p:nvPr/>
          </p:nvSpPr>
          <p:spPr>
            <a:xfrm>
              <a:off x="1579680" y="165996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椭圆 24"/>
            <p:cNvSpPr/>
            <p:nvPr/>
          </p:nvSpPr>
          <p:spPr>
            <a:xfrm>
              <a:off x="4794120" y="1089000"/>
              <a:ext cx="2714400" cy="2427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等腰三角形 25"/>
            <p:cNvSpPr/>
            <p:nvPr/>
          </p:nvSpPr>
          <p:spPr>
            <a:xfrm>
              <a:off x="5365800" y="1374480"/>
              <a:ext cx="428400" cy="428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等腰三角形 26"/>
            <p:cNvSpPr/>
            <p:nvPr/>
          </p:nvSpPr>
          <p:spPr>
            <a:xfrm>
              <a:off x="5937120" y="1374480"/>
              <a:ext cx="428400" cy="428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等腰三角形 27"/>
            <p:cNvSpPr/>
            <p:nvPr/>
          </p:nvSpPr>
          <p:spPr>
            <a:xfrm>
              <a:off x="6508800" y="1374480"/>
              <a:ext cx="428400" cy="428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等腰三角形 28"/>
            <p:cNvSpPr/>
            <p:nvPr/>
          </p:nvSpPr>
          <p:spPr>
            <a:xfrm>
              <a:off x="5365800" y="194580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等腰三角形 29"/>
            <p:cNvSpPr/>
            <p:nvPr/>
          </p:nvSpPr>
          <p:spPr>
            <a:xfrm>
              <a:off x="5937120" y="194580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等腰三角形 30"/>
            <p:cNvSpPr/>
            <p:nvPr/>
          </p:nvSpPr>
          <p:spPr>
            <a:xfrm>
              <a:off x="6508800" y="194580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等腰三角形 31"/>
            <p:cNvSpPr/>
            <p:nvPr/>
          </p:nvSpPr>
          <p:spPr>
            <a:xfrm>
              <a:off x="5365800" y="258804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等腰三角形 32"/>
            <p:cNvSpPr/>
            <p:nvPr/>
          </p:nvSpPr>
          <p:spPr>
            <a:xfrm>
              <a:off x="5937120" y="258804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等腰三角形 33"/>
            <p:cNvSpPr/>
            <p:nvPr/>
          </p:nvSpPr>
          <p:spPr>
            <a:xfrm>
              <a:off x="6508800" y="258804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67" name="椭圆 6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8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9" name="椭圆 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0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2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圆角矩形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TextBox 3"/>
          <p:cNvSpPr/>
          <p:nvPr/>
        </p:nvSpPr>
        <p:spPr>
          <a:xfrm>
            <a:off x="376200" y="762120"/>
            <a:ext cx="4572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小棒，取出它的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组合 3"/>
          <p:cNvGrpSpPr/>
          <p:nvPr/>
        </p:nvGrpSpPr>
        <p:grpSpPr>
          <a:xfrm>
            <a:off x="4068720" y="762120"/>
            <a:ext cx="539640" cy="854640"/>
            <a:chOff x="4068720" y="762120"/>
            <a:chExt cx="539640" cy="854640"/>
          </a:xfrm>
        </p:grpSpPr>
        <p:sp>
          <p:nvSpPr>
            <p:cNvPr id="1177" name="Text Box 52"/>
            <p:cNvSpPr/>
            <p:nvPr/>
          </p:nvSpPr>
          <p:spPr>
            <a:xfrm>
              <a:off x="4068720" y="115704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组合 2"/>
            <p:cNvGrpSpPr/>
            <p:nvPr/>
          </p:nvGrpSpPr>
          <p:grpSpPr>
            <a:xfrm>
              <a:off x="4132800" y="762120"/>
              <a:ext cx="403920" cy="462240"/>
              <a:chOff x="4132800" y="762120"/>
              <a:chExt cx="403920" cy="462240"/>
            </a:xfrm>
          </p:grpSpPr>
          <p:sp>
            <p:nvSpPr>
              <p:cNvPr id="1179" name="Text Box 51"/>
              <p:cNvSpPr/>
              <p:nvPr/>
            </p:nvSpPr>
            <p:spPr>
              <a:xfrm>
                <a:off x="4132800" y="762120"/>
                <a:ext cx="40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0" name=""/>
              <p:cNvGrpSpPr/>
              <p:nvPr/>
            </p:nvGrpSpPr>
            <p:grpSpPr>
              <a:xfrm>
                <a:off x="4140720" y="1224000"/>
                <a:ext cx="356400" cy="360"/>
                <a:chOff x="4140720" y="1224000"/>
                <a:chExt cx="356400" cy="360"/>
              </a:xfrm>
            </p:grpSpPr>
            <p:sp>
              <p:nvSpPr>
                <p:cNvPr id="1181" name="Line 53"/>
                <p:cNvSpPr/>
                <p:nvPr/>
              </p:nvSpPr>
              <p:spPr>
                <a:xfrm>
                  <a:off x="4140720" y="1224000"/>
                  <a:ext cx="356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 txBox="1"/>
                <p:nvPr/>
              </p:nvSpPr>
              <p:spPr>
                <a:xfrm>
                  <a:off x="4140720" y="1224000"/>
                  <a:ext cx="35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3" name="组合 4"/>
          <p:cNvGrpSpPr/>
          <p:nvPr/>
        </p:nvGrpSpPr>
        <p:grpSpPr>
          <a:xfrm>
            <a:off x="1295280" y="1914480"/>
            <a:ext cx="5007240" cy="1884240"/>
            <a:chOff x="1295280" y="1914480"/>
            <a:chExt cx="5007240" cy="1884240"/>
          </a:xfrm>
        </p:grpSpPr>
        <p:pic>
          <p:nvPicPr>
            <p:cNvPr id="1184" name="Picture 2" descr="D:\我的文档-桌面-收藏夹\桌面\u=2432150407,3046920266&amp;fm=21&amp;gp=0.jpg"/>
            <p:cNvPicPr/>
            <p:nvPr/>
          </p:nvPicPr>
          <p:blipFill>
            <a:blip r:embed="rId1"/>
            <a:srcRect l="0" t="0" r="21583" b="0"/>
            <a:stretch/>
          </p:blipFill>
          <p:spPr>
            <a:xfrm>
              <a:off x="1295280" y="2024640"/>
              <a:ext cx="406800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Picture 2" descr="D:\我的文档-桌面-收藏夹\桌面\u=2432150407,3046920266&amp;fm=21&amp;gp=0.jpg"/>
            <p:cNvPicPr/>
            <p:nvPr/>
          </p:nvPicPr>
          <p:blipFill>
            <a:blip r:embed="rId2"/>
            <a:stretch/>
          </p:blipFill>
          <p:spPr>
            <a:xfrm>
              <a:off x="5468040" y="2032560"/>
              <a:ext cx="83448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圆角矩形 8"/>
            <p:cNvSpPr/>
            <p:nvPr/>
          </p:nvSpPr>
          <p:spPr>
            <a:xfrm>
              <a:off x="1295280" y="1914480"/>
              <a:ext cx="938160" cy="18842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884240"/>
                <a:gd name="textAreaBottom" fmla="*/ 1838520 h 1884240"/>
              </a:gdLst>
              <a:ahLst/>
              <a:rect l="textAreaLeft" t="textAreaTop" r="textAreaRight" b="textAreaBottom"/>
              <a:pathLst>
                <a:path w="21600" h="43374">
                  <a:moveTo>
                    <a:pt x="3600" y="0"/>
                  </a:moveTo>
                  <a:arcTo wR="3600" hR="3600" stAng="16200000" swAng="-5400000"/>
                  <a:lnTo>
                    <a:pt x="0" y="39774"/>
                  </a:lnTo>
                  <a:arcTo wR="3600" hR="3600" stAng="10800000" swAng="-5400000"/>
                  <a:lnTo>
                    <a:pt x="18000" y="433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圆角矩形 9"/>
            <p:cNvSpPr/>
            <p:nvPr/>
          </p:nvSpPr>
          <p:spPr>
            <a:xfrm>
              <a:off x="2338200" y="1914480"/>
              <a:ext cx="938160" cy="18842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884240"/>
                <a:gd name="textAreaBottom" fmla="*/ 1838520 h 1884240"/>
              </a:gdLst>
              <a:ahLst/>
              <a:rect l="textAreaLeft" t="textAreaTop" r="textAreaRight" b="textAreaBottom"/>
              <a:pathLst>
                <a:path w="21600" h="43374">
                  <a:moveTo>
                    <a:pt x="3600" y="0"/>
                  </a:moveTo>
                  <a:arcTo wR="3600" hR="3600" stAng="16200000" swAng="-5400000"/>
                  <a:lnTo>
                    <a:pt x="0" y="39774"/>
                  </a:lnTo>
                  <a:arcTo wR="3600" hR="3600" stAng="10800000" swAng="-5400000"/>
                  <a:lnTo>
                    <a:pt x="18000" y="433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2"/>
          <p:cNvGrpSpPr/>
          <p:nvPr/>
        </p:nvGrpSpPr>
        <p:grpSpPr>
          <a:xfrm>
            <a:off x="11160" y="81000"/>
            <a:ext cx="3244680" cy="525600"/>
            <a:chOff x="11160" y="81000"/>
            <a:chExt cx="3244680" cy="525600"/>
          </a:xfrm>
        </p:grpSpPr>
        <p:pic>
          <p:nvPicPr>
            <p:cNvPr id="1189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61640" y="810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0" name="组合 4"/>
            <p:cNvGrpSpPr/>
            <p:nvPr/>
          </p:nvGrpSpPr>
          <p:grpSpPr>
            <a:xfrm>
              <a:off x="11160" y="176760"/>
              <a:ext cx="429840" cy="271800"/>
              <a:chOff x="11160" y="176760"/>
              <a:chExt cx="429840" cy="271800"/>
            </a:xfrm>
          </p:grpSpPr>
          <p:sp>
            <p:nvSpPr>
              <p:cNvPr id="1191" name="椭圆 1"/>
              <p:cNvSpPr/>
              <p:nvPr/>
            </p:nvSpPr>
            <p:spPr>
              <a:xfrm rot="16200000">
                <a:off x="254160" y="3394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2" name="椭圆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29320" y="3031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3" name="椭圆 29"/>
              <p:cNvSpPr/>
              <p:nvPr/>
            </p:nvSpPr>
            <p:spPr>
              <a:xfrm rot="16200000">
                <a:off x="254160" y="2134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4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29320" y="1911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3193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6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912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44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176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组合 2"/>
          <p:cNvGrpSpPr/>
          <p:nvPr/>
        </p:nvGrpSpPr>
        <p:grpSpPr>
          <a:xfrm>
            <a:off x="11160" y="81000"/>
            <a:ext cx="3244680" cy="525600"/>
            <a:chOff x="11160" y="81000"/>
            <a:chExt cx="3244680" cy="525600"/>
          </a:xfrm>
        </p:grpSpPr>
        <p:pic>
          <p:nvPicPr>
            <p:cNvPr id="120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61640" y="810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1" name="组合 4"/>
            <p:cNvGrpSpPr/>
            <p:nvPr/>
          </p:nvGrpSpPr>
          <p:grpSpPr>
            <a:xfrm>
              <a:off x="11160" y="176040"/>
              <a:ext cx="429840" cy="273600"/>
              <a:chOff x="11160" y="176040"/>
              <a:chExt cx="429840" cy="273600"/>
            </a:xfrm>
          </p:grpSpPr>
          <p:sp>
            <p:nvSpPr>
              <p:cNvPr id="1202" name="椭圆 1"/>
              <p:cNvSpPr/>
              <p:nvPr/>
            </p:nvSpPr>
            <p:spPr>
              <a:xfrm rot="16200000">
                <a:off x="253800" y="3402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9320" y="30312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椭圆 29"/>
              <p:cNvSpPr/>
              <p:nvPr/>
            </p:nvSpPr>
            <p:spPr>
              <a:xfrm rot="16200000">
                <a:off x="253800" y="21348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9320" y="1904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31968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912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0412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1760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0" name="文本框 6"/>
          <p:cNvSpPr/>
          <p:nvPr/>
        </p:nvSpPr>
        <p:spPr>
          <a:xfrm>
            <a:off x="450720" y="876240"/>
            <a:ext cx="8472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把多个物体看成一个整体来平均分，用分数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10"/>
          <p:cNvSpPr/>
          <p:nvPr/>
        </p:nvSpPr>
        <p:spPr>
          <a:xfrm>
            <a:off x="399960" y="2073240"/>
            <a:ext cx="77724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多个物体平均分成若干份，取其中的几份，也能用分数表示。平均分成几份，分母就是几；取其中的几份，分子就是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1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15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3" name="文本框 99"/>
          <p:cNvSpPr/>
          <p:nvPr/>
        </p:nvSpPr>
        <p:spPr>
          <a:xfrm>
            <a:off x="365040" y="93348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用分数表示下面各图中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4" name="图片 90" descr="TBRJ-12"/>
          <p:cNvPicPr/>
          <p:nvPr/>
        </p:nvPicPr>
        <p:blipFill>
          <a:blip r:embed="rId8"/>
          <a:stretch/>
        </p:blipFill>
        <p:spPr>
          <a:xfrm>
            <a:off x="914400" y="2022480"/>
            <a:ext cx="663264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28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6" name="文本框 99"/>
          <p:cNvSpPr/>
          <p:nvPr/>
        </p:nvSpPr>
        <p:spPr>
          <a:xfrm>
            <a:off x="441360" y="727200"/>
            <a:ext cx="60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涂色表示下面各图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图片 -2147482535" descr="TBRJ-13"/>
          <p:cNvPicPr/>
          <p:nvPr/>
        </p:nvPicPr>
        <p:blipFill>
          <a:blip r:embed="rId8"/>
          <a:stretch/>
        </p:blipFill>
        <p:spPr>
          <a:xfrm>
            <a:off x="853920" y="1344600"/>
            <a:ext cx="6999480" cy="416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7:24:09Z</dcterms:created>
  <dc:creator/>
  <dc:description/>
  <dc:language>en-US</dc:language>
  <cp:lastModifiedBy>万润仪器贸易公司</cp:lastModifiedBy>
  <dcterms:modified xsi:type="dcterms:W3CDTF">2020-08-21T01:37:2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